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79DB5-9986-4615-BD0F-7E6DD314F4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206800" y="684360"/>
            <a:ext cx="2654280" cy="1990440"/>
          </a:xfrm>
          <a:prstGeom prst="rect">
            <a:avLst/>
          </a:prstGeom>
          <a:ln w="0">
            <a:noFill/>
          </a:ln>
        </p:spPr>
      </p:sp>
      <p:sp>
        <p:nvSpPr>
          <p:cNvPr id="160" name="PlaceHolder 2"/>
          <p:cNvSpPr>
            <a:spLocks noGrp="1"/>
          </p:cNvSpPr>
          <p:nvPr>
            <p:ph type="body"/>
          </p:nvPr>
        </p:nvSpPr>
        <p:spPr>
          <a:xfrm>
            <a:off x="685800" y="2842920"/>
            <a:ext cx="569592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эвид Коттрелл и Эрик Харвей в своей книге «Мужество руководить» напоминают нам, что «для каждого человека в любой организации наступает момент, когда он или она должны мужественно двигаться вперед и отвечать на нужды времени. Независимо от того, когда наступит ваше время: сейчас или в будущем, вы должны подготовиться  и как мужественный руководитель желать воспользоваться моментом!»</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женщина не так давно начала поддерживать и использовать свои лидерские способности в церковной организации, иногда кажется страшным продвигаться вперед и служить в тех областях, где прежде служение проводили всего лишь несколько женщин, даже когда существуют большие возможности. Многие женщины расскажут вам, что они отказались от возможности изменить что-либо, потому что боялись, что упадут с дороги. Сопротивление – это один из самых больших страх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должны научиться, что этот вид сопротивления естественен, независимо от того, кем вы являетесь. Все мы, мужчины и женщины, хотим оставаться в комфортной зоне, мы хотим контролировать положение дел, а перемены ослабляют контроль. По крайней мере, нам необходимо владеть ситуацией. Но если мы работаем эффективно, то нам всегда есть, что изменить.</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092320" y="539640"/>
            <a:ext cx="2654280" cy="1990800"/>
          </a:xfrm>
          <a:prstGeom prst="rect">
            <a:avLst/>
          </a:prstGeom>
          <a:ln w="0">
            <a:noFill/>
          </a:ln>
        </p:spPr>
      </p:sp>
      <p:sp>
        <p:nvSpPr>
          <p:cNvPr id="162"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Бог призвал вас руководить, то вместо вопроса: «Почему я?», подумайте: «Почему не я?». Помните о том, что если Бог призывает вас, то Он не предлагает делать всю работу в одиночку. Он обещал сопровождать вас. Поэтому позвольте Господу руководить, а себе - следовать. Это означает склоняться на колени и просить продолжения руководства. Коттрелл и Харвей предлагают: «Остановитесь перед тем, как сделать следующий шаг – всегда оценивайте результаты, которых вы достигли. Воспользуйтесь переменами, потому что когда вы перестанете изменяться, вы перестанете развиваться» (Коттрелл, Харвей, стр. 26)</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20760" y="395280"/>
            <a:ext cx="2367000" cy="1774800"/>
          </a:xfrm>
          <a:prstGeom prst="rect">
            <a:avLst/>
          </a:prstGeom>
          <a:ln w="0">
            <a:noFill/>
          </a:ln>
        </p:spPr>
      </p:sp>
      <p:sp>
        <p:nvSpPr>
          <p:cNvPr id="164"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увствуете ли вы себя женщиной, которую призвал Бог? Если да, то в какой област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женщина может знать, что Бог призвал ее выполнить определенную задачу?</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сколько комфортно вы себя чувствуете, когда следуете за женщиной-руководителем?</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95640" y="755640"/>
            <a:ext cx="2365200" cy="1774800"/>
          </a:xfrm>
          <a:prstGeom prst="rect">
            <a:avLst/>
          </a:prstGeom>
          <a:ln w="0">
            <a:noFill/>
          </a:ln>
        </p:spPr>
      </p:sp>
      <p:sp>
        <p:nvSpPr>
          <p:cNvPr id="16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 не обратить внимание на тот факт, что, когда вы осознаете, что Бог призвал вас руководить, вы узнаете намного больше о себе, поэтому вы можете изменяться, возрастать и становиться руководителем, которого Бог вложил в вас. Один из способов, которому вы можете последовать, - изучить хорошо разработанные модели, которые помогут вам воссоздать или возродить ваш способ руководства. Вам необходимо изучить следующие аспект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как успешно использовать в руководстве методы, которые отражают ваши ценности и личные качест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раскрыть личные качества и способности, о которых вы не знает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связать обе группы качест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никогда раньше не руководили людьми, возможно, вам было бы полезно поучаствовать в семинаре для руководителей или даже прослушать спецкурс по соответствующей дисциплине. Если вы хотите иметь успех на самом высоком уровне, вам необходимо как для себя самого, так и для других людей лучше изучить себя и свои методы эффективного руководства. Одним из самых быстрых способов саморазвития является способ, который предлагает вам провести интервью, по крайней мере, с 10-12 другими женщинами, которых вы знаете и которые могут помочь вам разработать цели  руководства. Время от времени вы можете обращаться к списку и спрашивать каждую из женщин:</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чему эта женщина будет поддерживать мое видени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что требуется от этой женщины, чтобы она поддерживала меня?</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057400" y="395280"/>
            <a:ext cx="2655720" cy="1992240"/>
          </a:xfrm>
          <a:prstGeom prst="rect">
            <a:avLst/>
          </a:prstGeom>
          <a:ln w="0">
            <a:noFill/>
          </a:ln>
        </p:spPr>
      </p:sp>
      <p:sp>
        <p:nvSpPr>
          <p:cNvPr id="168" name="PlaceHolder 2"/>
          <p:cNvSpPr>
            <a:spLocks noGrp="1"/>
          </p:cNvSpPr>
          <p:nvPr>
            <p:ph type="body"/>
          </p:nvPr>
        </p:nvSpPr>
        <p:spPr>
          <a:xfrm>
            <a:off x="685800" y="248436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ОБСУЖД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ми лидерскими качествами вы обладае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будете продолжать развивать их в служении Богу?</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себя чувствуете, используя эти качества?</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68640" y="395280"/>
            <a:ext cx="2465280" cy="1847880"/>
          </a:xfrm>
          <a:prstGeom prst="rect">
            <a:avLst/>
          </a:prstGeom>
          <a:ln w="0">
            <a:noFill/>
          </a:ln>
        </p:spPr>
      </p:sp>
      <p:sp>
        <p:nvSpPr>
          <p:cNvPr id="170"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4 – РУКОВОДИТЕ КАК ЖЕНЩИНА, А НЕ КАК МУЖЧИН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самых больших ошибок, которую могут сделать женщины-руководители, заключается в том, что они стараются руководить как мужчины, а не как женщины. Существует несколько ролевых моделей в той области, но многие женщины подражают только тем моделям, которые они видели у мужчин. Несмотря на то, что женщины могут многому научиться у мужчин, им необходимо знать, что они могут достичь намного большего, если будут оставаться собой. Для успешного руководства нам нужно определить, чего, на самом деле, хотим добиться и когда чувствуем себя комфортно, чтобы попросить об этом, а затем запустить ресурсы, чтобы достичь желаемого результат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нна Лихтенберг назвала эту модель «Слабая как девушка». Она пишет в своей книге с одноименным названием «все мы проявляем слабость, в разное время и в разных ситуациях, чтобы получить то, что нам нужно и чего мы хотим от жизни. Мы лишь иногда не осознаем, что мы слаб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же такое Слабость. Ронна говорит: «Слабость -  ни что другое как более или менее, чем использование вашего влияния, навыков и способностей убеждения получить поддержку и заставить людей делать то, что вам нужно. Слабость - своего рода заручение поддержкой ваших целей. Это своего рода защита вашего видения того, что должно произойти, просьба о поддержке и предоставление другим людям информации о том, почему ваше предложение самое лучше. Когда вы проявляете слабость, вы обычно говорите: мне нужны ваши возможности, чтобы воплотить мою мечт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043000" y="395280"/>
            <a:ext cx="2557440" cy="1919160"/>
          </a:xfrm>
          <a:prstGeom prst="rect">
            <a:avLst/>
          </a:prstGeom>
          <a:ln w="0">
            <a:noFill/>
          </a:ln>
        </p:spPr>
      </p:sp>
      <p:sp>
        <p:nvSpPr>
          <p:cNvPr id="172" name="PlaceHolder 2"/>
          <p:cNvSpPr>
            <a:spLocks noGrp="1"/>
          </p:cNvSpPr>
          <p:nvPr>
            <p:ph type="body"/>
          </p:nvPr>
        </p:nvSpPr>
        <p:spPr>
          <a:xfrm>
            <a:off x="685800" y="2339640"/>
            <a:ext cx="5486400" cy="583092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ы можете напомнить себе, что Бог сотворил женщину и мужчину по своему образу (Быт. 1:26), поэтому существует женское начало. На протяжении веков лишь несколько женщин были привлечены к принятию решений на самом высоком административном уровне. Самые большие организации не только привлекают женщин к принятию решений, но также доверяют им руководство командами</a:t>
            </a:r>
            <a:r>
              <a:rPr b="0" lang="ru-RU" sz="1000" spc="-1" strike="noStrike">
                <a:solidFill>
                  <a:srgbClr val="000000"/>
                </a:solidFill>
                <a:latin typeface="Calibri"/>
              </a:rPr>
              <a:t> </a:t>
            </a:r>
            <a:r>
              <a:rPr b="0" lang="ru-RU" sz="1000" spc="-1" strike="noStrike">
                <a:solidFill>
                  <a:srgbClr val="000000"/>
                </a:solidFill>
                <a:latin typeface="Arial"/>
              </a:rPr>
              <a:t>.</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914480" y="539640"/>
            <a:ext cx="2940120" cy="2206800"/>
          </a:xfrm>
          <a:prstGeom prst="rect">
            <a:avLst/>
          </a:prstGeom>
          <a:ln w="0">
            <a:noFill/>
          </a:ln>
        </p:spPr>
      </p:sp>
      <p:sp>
        <p:nvSpPr>
          <p:cNvPr id="174"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лидерские качества вы обнаружили у женщин-руководителей, которых вы знае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ое, по крайней мере, одно из этих качеств, которое вы хотели бы развить в себ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 каких ваших лидерских качествах вам говорят другие люди?</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158920" y="395280"/>
            <a:ext cx="2367000" cy="1774800"/>
          </a:xfrm>
          <a:prstGeom prst="rect">
            <a:avLst/>
          </a:prstGeom>
          <a:ln w="0">
            <a:noFill/>
          </a:ln>
        </p:spPr>
      </p:sp>
      <p:sp>
        <p:nvSpPr>
          <p:cNvPr id="176" name="PlaceHolder 2"/>
          <p:cNvSpPr>
            <a:spLocks noGrp="1"/>
          </p:cNvSpPr>
          <p:nvPr>
            <p:ph type="body"/>
          </p:nvPr>
        </p:nvSpPr>
        <p:spPr>
          <a:xfrm>
            <a:off x="685440" y="2268360"/>
            <a:ext cx="5622840" cy="611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цепция работы в команде очень важна в руководстве. В процессе построения команды очень важно осознавать, что различия во мнениях и конфликты, которые могут быть их следствием, неизбежны, особенно на рабочем месте или в церковном сообществе. Поскольку люди взаимодействуют посредством своих идей, точек зрения, подходов, чувств, расписаний, приоритетов и методологий они могут сталкиваться друг с другом. Руководитель не может не отреагировать на эти моменты, потому что, если они пущены на самотек, подобные проблемы будут губительны, особенно для женщины-руководителя. И это одна из областей, в которой руководящие способности и характер женщины-руководителя проверяютс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женщинам сравнительно недавно стали доверять руководящие должности, многие из нас даже не ожидают в каких сферах можно наделать ошибок. Поэтому представляется полезным дать следующий совет – держите глаза и уши открытыми, чтобы избежать многих потенциальных конфликтов, когда вы можете это сделать. Также развивайте навыки выхода из конфликтных ситуаций, когда они происходят. И не позволяйте ни одному вопросу повисать в воздухе, особенно, если он связан с другими женщинами. Женщины могут стать вашими самыми лучшими помощницами, а также вашими сильнейшими критиками, в зависимости от ситуа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мы слышали о том, что руководители говорят, что они должны избрать и выбрать свои вершины, что означает «сделать выбор: бороться до конца или позволить порулить собой». В разрешении конфликта промедление опасно. Иногда очень трудно поднимать по-настоящему сложные (очень большое напряжение) или незначительные (небольшое напряжение) вопросы. Коттрелл и Харвей напоминают нам, что игнорирование незначительных деталей не устраняет их. Мелочи лишь продолжат расти, и если вы игнорируете их на протяжении длительного срока времени, они в действительности станут монстрам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предлагают следовать модели «от незначительного к огромному», которая подходит для многих ситуаций, объясняет конфликты между двумя членами группы или простые недостатки общения. Необходимо учитывать, что конфликтные ситуации содержат два компонент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конфликты негативно влияют на людей и абсолютную производительность коман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фликты не локализуются, они подобны «снежному ком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130480" y="468360"/>
            <a:ext cx="2940120" cy="2206440"/>
          </a:xfrm>
          <a:prstGeom prst="rect">
            <a:avLst/>
          </a:prstGeom>
          <a:ln w="0">
            <a:noFill/>
          </a:ln>
        </p:spPr>
      </p:sp>
      <p:sp>
        <p:nvSpPr>
          <p:cNvPr id="17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роче говоря, исследования показали, что более, чем восемь процентов проблем возникают, когда руководители организации вовлечены в межличностные конфликты внутри рабочей группы. Эти конфликты не возможно игнорировать, что они сами по себе разрешатся. Это не произойдет. Люди всегда будут сталкиваться с проблемными ситуациями, а руководитель должен быть готов разрешать их.</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225520" y="324000"/>
            <a:ext cx="2460960" cy="1846080"/>
          </a:xfrm>
          <a:prstGeom prst="rect">
            <a:avLst/>
          </a:prstGeom>
          <a:ln w="0">
            <a:noFill/>
          </a:ln>
        </p:spPr>
      </p:sp>
      <p:sp>
        <p:nvSpPr>
          <p:cNvPr id="144"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учение других людей, особенно других женщин, является важнейшим компонентом успеха руководителя. Десять основных стратегий семинара открывают способы обучения других людей, а также предоставляют информацию о руководстве командой. Вопросы для размышления, предложенные в конце каждой стратегии, побудят участников к дискуссии, которая принесет пользу каждой женщине и поможет продолжить раскрывать, развивать и взращивать руководителя в себе.</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220840" y="539640"/>
            <a:ext cx="2560680" cy="1919520"/>
          </a:xfrm>
          <a:prstGeom prst="rect">
            <a:avLst/>
          </a:prstGeom>
          <a:ln w="0">
            <a:noFill/>
          </a:ln>
        </p:spPr>
      </p:sp>
      <p:sp>
        <p:nvSpPr>
          <p:cNvPr id="180" name="PlaceHolder 2"/>
          <p:cNvSpPr>
            <a:spLocks noGrp="1"/>
          </p:cNvSpPr>
          <p:nvPr>
            <p:ph type="body"/>
          </p:nvPr>
        </p:nvSpPr>
        <p:spPr>
          <a:xfrm>
            <a:off x="685800" y="2556000"/>
            <a:ext cx="5486400" cy="5470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ОБСУЖД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много раньше в руководящих кругах существовало мнение, что «женщины являются самыми злейшими врагами для самих же себя». Что означает данное заявлени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читаете ли вы, что в наши дни женщине легче поддержать другую женщину? Почему? И почему нет?</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104920" y="324000"/>
            <a:ext cx="2559240" cy="1919160"/>
          </a:xfrm>
          <a:prstGeom prst="rect">
            <a:avLst/>
          </a:prstGeom>
          <a:ln w="0">
            <a:noFill/>
          </a:ln>
        </p:spPr>
      </p:sp>
      <p:sp>
        <p:nvSpPr>
          <p:cNvPr id="182" name="PlaceHolder 2"/>
          <p:cNvSpPr>
            <a:spLocks noGrp="1"/>
          </p:cNvSpPr>
          <p:nvPr>
            <p:ph type="body"/>
          </p:nvPr>
        </p:nvSpPr>
        <p:spPr>
          <a:xfrm>
            <a:off x="549360" y="2340000"/>
            <a:ext cx="59040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многие женщины не занимали общественные руководящие должности ранее, возможно, существуют преграды, которые могут помешать им стать успешными руководителями, и эти преграды следует изучить. Одна из наиболее очевидных преград – СТРА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ая – ОТВЕТСТВЕННОСТЬ.  Другими словами, осознавание, что «выше головы не прыгнешь». Когда ответственность становится преградой, возможно, у вас не останется времени в вашем переполненном личном и профессиональном расписании, чтобы добавить еще и эту руководящую задач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ретьей преградой может быть НЕДОСТАТОК ПОДДЕРЖКИ. Как руководитель вы нуждаетесь в поддержке, чтобы сделать то, что должно быть сделано, и то, что должно быть сделано вовремя. Коттрелл сравнивает поддержку с внутренними органами, нервной системой и сердцем, которые питают и ободряют процесс. Чтобы стать поддерживаемым руководителем вы должны иметь неопровержимое, бесспорное и неколеблющееся посвящение, чтобы сделать все самое лучшее. Коттрелл делает вывод, что истинная ценность вашего руководства заключается в способности смотреть в зеркало и знать, что у вас есть поддержка сделать то, что вы считаете правильны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вертой преградой может быть ЛИЧНЫЙ БАГАЖ. Многие женщины не смогли продвинуться в своем руководстве, оглядываясь на свой личный опыт. Мы должны осознавать, что у всех из нас есть багаж прошлого, которого нам может быть хотелось бы избежать. Этот багаж и привел нас ко крещению или к таинству повиновения. Если все эти моменты будут сопровождать нас, мы никогда не станем эффективными руководителями, какими Бог хочет нас виде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агаж подобен грузам, о которых пишет автор послания к Евреям (Евр. 12:1-2). Мы никогда не увидим спринтера с тяжелыми грузами на ногах. Не обязательно получать докторскую степень, чтобы понять, что грузы просто замедляют бег. Невозможно бежать с ними и побеждать. Нам необходимо отпустить багаж прошлого, даже если другие люди напоминают нам о нем. Прошлое произошло в прошлом, и если мы останемся в нем, то не продвинемся вперед. Найдите способы, чтобы помочь вашему личному и эмоциональному багажу. Чем быстрее вы это сделаете, тем более успешным руководителем вы станете.</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060640" y="395280"/>
            <a:ext cx="2560680" cy="1919160"/>
          </a:xfrm>
          <a:prstGeom prst="rect">
            <a:avLst/>
          </a:prstGeom>
          <a:ln w="0">
            <a:noFill/>
          </a:ln>
        </p:spPr>
      </p:sp>
      <p:sp>
        <p:nvSpPr>
          <p:cNvPr id="184" name="PlaceHolder 2"/>
          <p:cNvSpPr>
            <a:spLocks noGrp="1"/>
          </p:cNvSpPr>
          <p:nvPr>
            <p:ph type="body"/>
          </p:nvPr>
        </p:nvSpPr>
        <p:spPr>
          <a:xfrm>
            <a:off x="685800" y="2410920"/>
            <a:ext cx="5486400" cy="58309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ОБСУЖД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не личные преграды вам необходимо преодолеть? (Упомяните о личных преградах также, если вы хоти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гласны ли вы с тем, что женщины должны преодолевать больше преград, чем мужчины?</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ъясните, почему вы считаете, что женщины встречаются (или не встречаются) с множеством преград.</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133720" y="324000"/>
            <a:ext cx="2462040" cy="1846080"/>
          </a:xfrm>
          <a:prstGeom prst="rect">
            <a:avLst/>
          </a:prstGeom>
          <a:ln w="0">
            <a:noFill/>
          </a:ln>
        </p:spPr>
      </p:sp>
      <p:sp>
        <p:nvSpPr>
          <p:cNvPr id="186"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7 – ИЗУЧИТЕ ПРАТИЧЕСКИЕ СТРАТЕГИИ ПРЕОДОЛЕГИЯ ПРЕГРАД В РУКОВОДСТВ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ервое, что вам необходимо знать, после того, как вы изучили преграды, которые могут навредить вашему руководству – от вас не требуется разрешать проблемы в одночасье. Однако, вам необходимо овладеть двумя или тремя особыми способами разрешения конфликтов. Даже если они покажутся вам детскими, позвольте им помочь вам продвинуться в верном направл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дин из способов стать хорошим эффективным руководителем - обучиться дисциплине, провести духовное исследование, прочитать больше книг по данной теме, посетить семинары и т. д. Женщины, которые хотят совершать служение, возможно, не знают, как проводить Библейское исследование. Возможно, самым простым будет пригласить их к себе домой и начать изучение вместе. Затем, когда вы будете чувствовать себя вполне уверенно, вы сможете встать перед женщинами, которых вы знаете, и представить соответствующую тему. Возможно, вы сейчас пока не можете выступить перед всем церковным сообществом с данной темой. Но благодаря этому маленькому опыту, возможно, однажды вы выйдете за кафедр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женщины расскажут вам, что их первый опыт руководства заключался в чтении Библии вслух дома. Затем они выступали перед членами семьи. А в настоящее время эти женщины являются общественными евангелистами. Все начинается с очень простых, детских шагов. Вам необходимо последовать им.</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395280"/>
            <a:ext cx="2460600" cy="1846440"/>
          </a:xfrm>
          <a:prstGeom prst="rect">
            <a:avLst/>
          </a:prstGeom>
          <a:ln w="0">
            <a:noFill/>
          </a:ln>
        </p:spPr>
      </p:sp>
      <p:sp>
        <p:nvSpPr>
          <p:cNvPr id="188" name="PlaceHolder 2"/>
          <p:cNvSpPr>
            <a:spLocks noGrp="1"/>
          </p:cNvSpPr>
          <p:nvPr>
            <p:ph type="body"/>
          </p:nvPr>
        </p:nvSpPr>
        <p:spPr>
          <a:xfrm>
            <a:off x="685800" y="2340000"/>
            <a:ext cx="5486400" cy="5757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преград, которые вы перечислите в Стратегии 7, определите способы, которыми женщины могли бы преодолеть их.</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елитесь своим опытом, как вы преодолели хотя бы одну из преград.</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простые, даже детские советы вы могли бы дать женщинам, которым нужно переместиться из пункта А в пункт Б?</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174760" y="611280"/>
            <a:ext cx="2365560" cy="1774800"/>
          </a:xfrm>
          <a:prstGeom prst="rect">
            <a:avLst/>
          </a:prstGeom>
          <a:ln w="0">
            <a:noFill/>
          </a:ln>
        </p:spPr>
      </p:sp>
      <p:sp>
        <p:nvSpPr>
          <p:cNvPr id="190" name="PlaceHolder 2"/>
          <p:cNvSpPr>
            <a:spLocks noGrp="1"/>
          </p:cNvSpPr>
          <p:nvPr>
            <p:ph type="body"/>
          </p:nvPr>
        </p:nvSpPr>
        <p:spPr>
          <a:xfrm>
            <a:off x="685800" y="2484360"/>
            <a:ext cx="5486400" cy="5470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8 – РУКОВОДИТЕ С УВЕРЕННОСТЬЮ, ОГРАНИЧИВАЯ ВЫРАЖЕНИЕ ЭМОЦ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гораздо легче проявляют и говорят об эмоциях, чем мужчины. Большинство женщин, однако, должны принимать очень сложное решение: какие эмоции показать, с какой силой, насколько можно быть агрессивной, что может расцениваться как властность, бесцеремонность, самовластие женщин руководителей, которые работают в женских организация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 двумя противоположностями: пассивностью и агрессивностью существует эффективный полезный руководящий подход, известный как положительный стиль. Этот сбалансированный подход гарантирует, что вы сможете руководить людьми, добьетесь намеченного и сможете взаимодействовать в уравновешенной, уверенной манер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руководители должны держать эмоции под контролем. Слезы или уязвимость могут выглядеть как недостаток власти и авторитета. С другой стороны, слишком редкое проявление эмоций может быть интерпретировано как потеря женских характерных черт. В целом, понемногу все возможно. А затем вы снова можете вернуться в деловое настроение.</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247840" y="468360"/>
            <a:ext cx="2273400" cy="1704960"/>
          </a:xfrm>
          <a:prstGeom prst="rect">
            <a:avLst/>
          </a:prstGeom>
          <a:ln w="0">
            <a:noFill/>
          </a:ln>
        </p:spPr>
      </p:sp>
      <p:sp>
        <p:nvSpPr>
          <p:cNvPr id="192" name="PlaceHolder 2"/>
          <p:cNvSpPr>
            <a:spLocks noGrp="1"/>
          </p:cNvSpPr>
          <p:nvPr>
            <p:ph type="body"/>
          </p:nvPr>
        </p:nvSpPr>
        <p:spPr>
          <a:xfrm>
            <a:off x="685800" y="226836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ыли ли в вашей жизни случаи, когда другие люди говорили, что вы ведете себя бесцеремонно или агрессивно?</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женщина может держать свои эмоции под контролем?</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то означает для женщины-руководителя держать эмоции под контролем?</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95480" y="324000"/>
            <a:ext cx="2558880" cy="1919160"/>
          </a:xfrm>
          <a:prstGeom prst="rect">
            <a:avLst/>
          </a:prstGeom>
          <a:ln w="0">
            <a:noFill/>
          </a:ln>
        </p:spPr>
      </p:sp>
      <p:sp>
        <p:nvSpPr>
          <p:cNvPr id="194"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9 – БУДЬТЕ ОТКРЫТЫ К ВОЗМОЖНОСТЯМ ПРОДВИЖЕНИЯ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планируете принять вызов, будь-то корпорация или церковная организация, вам необходимо покинуть свою комфортную зону. Время от времени вам необходимо делать шаг в неизвестное. Поэтому вам многому придется учиться. Когда возможность постучится, вам необходимо открыть дверь, если вы хотите достичь самых высоких вершин, которые вам приготовил Создатель. Не закрывайте двери возможностей до тех пор, пока вы физически не сможете идти дальше.</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147760" y="395280"/>
            <a:ext cx="2460600" cy="1846440"/>
          </a:xfrm>
          <a:prstGeom prst="rect">
            <a:avLst/>
          </a:prstGeom>
          <a:ln w="0">
            <a:noFill/>
          </a:ln>
        </p:spPr>
      </p:sp>
      <p:sp>
        <p:nvSpPr>
          <p:cNvPr id="196"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вы оглядываетесь на свою жизнь, видите ли вы в ней «возможности», которые вы упустил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существуют различия между предложением и возможностью?</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важно помнить, чтобы не упустить возможность?</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133720" y="468360"/>
            <a:ext cx="2367000" cy="1774800"/>
          </a:xfrm>
          <a:prstGeom prst="rect">
            <a:avLst/>
          </a:prstGeom>
          <a:ln w="0">
            <a:noFill/>
          </a:ln>
        </p:spPr>
      </p:sp>
      <p:sp>
        <p:nvSpPr>
          <p:cNvPr id="198" name="PlaceHolder 2"/>
          <p:cNvSpPr>
            <a:spLocks noGrp="1"/>
          </p:cNvSpPr>
          <p:nvPr>
            <p:ph type="body"/>
          </p:nvPr>
        </p:nvSpPr>
        <p:spPr>
          <a:xfrm>
            <a:off x="685800" y="2340000"/>
            <a:ext cx="548640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0 – ОТВАЖИТЬСЯ НА РИСК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эффективных руководителей много схожих характерных черт. Две из них очень важ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Они берут на себя смелость принимать решения, когда это необходимо сдела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ни желают принести себя в жертву для пользы других люде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о Королеве Елизавете начинается с того, что Королева Елизавета всегда думала сначала о служении трону, а не о собственных желаниях. Многие эффективные руководители на протяжении всемерной истории делали то же самое. Они принимали очень сложные решения сделать то, что они считали верным, не смотря на свои собственные предпочтения.</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935000" y="250920"/>
            <a:ext cx="2752920" cy="2063520"/>
          </a:xfrm>
          <a:prstGeom prst="rect">
            <a:avLst/>
          </a:prstGeom>
          <a:ln w="0">
            <a:noFill/>
          </a:ln>
        </p:spPr>
      </p:sp>
      <p:sp>
        <p:nvSpPr>
          <p:cNvPr id="146"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Я 1 - ВЕРЬТЕ, ЧТО БОГ ПРИЗВАЛ ЖЕНЩИН БЫТЬ РУКОВОДИТЕЛЯМ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каждого из нас есть представления о мире, о себе, о том, как все мы взаимодействуем. Эти представления замысловато называются «точкой зрения», благодаря которой мы видим события и людей. Но мы не только создаем нашу реальность, но мы также остаемся в ней, потому что другие люди, многие из тех, кого мы знаем, обладают схожими представлениями. Но мы также остаемся в старой реальности не только, потому, что другие люди поддерживают ее, но также потому что мы боимся того, что другие люди могут подумать, что мы отходим от норм этой реальности. Это одна из причин, по которой многие женщины определяют для себя, что они могут, а чего не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женщины-руководители расскажут вам, что их самые сильные оппоненты это те женщины, которые не верят, что руководство - это дар Божий, который дан женщинам. Таким образом, первая преграда, которая стоит перед женщинами в целом, а особенно перед женщинами, призванными к служению, это преодоление убеждения, что женщины не могут служить церкви или своей организации как руководители, что руководство это дар, данный только мужчина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ам, которые думают в таком направлении, нам необходимо напомнить, что избранные женщины были активно вовлечены в руководство в древнем Израиле, не смотря на то, что их свобода и статус были строго ограничены иудаизмом и традицией. (Три примера женщин, используемых Богом на руководящих должностях в Ветхом Завете это Мариам, Девора и Олдама). Женщинам также необходимо напомнить, что во дни Христа Он бросал вызов традициям, законам и убеждениями, которые делали женщину зависимой.</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128680" y="826920"/>
            <a:ext cx="2654280" cy="1990800"/>
          </a:xfrm>
          <a:prstGeom prst="rect">
            <a:avLst/>
          </a:prstGeom>
          <a:ln w="0">
            <a:noFill/>
          </a:ln>
        </p:spPr>
      </p:sp>
      <p:sp>
        <p:nvSpPr>
          <p:cNvPr id="20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христианском руководстве мы располагаем желания Бога выше наших, поскольку только Он один знает, что лучше для нас. В Библейском повествовании мы читаем о некоторых героях, которые были очень незначительно образованы, но Бог руководил их жизнью и использовал их для Своего дела и славы. Они решили следовать за Ним, куда бы Он ни повел и, несомненно, им сопутствовал успех.</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51000" y="324000"/>
            <a:ext cx="2559240" cy="1919160"/>
          </a:xfrm>
          <a:prstGeom prst="rect">
            <a:avLst/>
          </a:prstGeom>
          <a:ln w="0">
            <a:noFill/>
          </a:ln>
        </p:spPr>
      </p:sp>
      <p:sp>
        <p:nvSpPr>
          <p:cNvPr id="202"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нашем семинаре мы рассмотрели стратегии, которые помогут женщинам, которых Бог призвал к служению руководства.</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т эти стратег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 - ВЕРЬТЕ, ЧТО БОГ ПРИЗВАЛ ЖЕНЩИН БЫТЬ РУКОВОДИТЕЛЯМ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2 - ВИДЕТЬ В СЕБЕ ЖЕНЩИНУ, ПРИЗВАННУЮ БОГОМ РУКОВОДИТЬ</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3 - РАЗВИТИЕ ЛИДЕРСКИХ НАВЫКОВ, КОТОРЫЕ БОГ ВЛОЖИЛ В ВАС</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4 – РУКОВОДИТЕ КАК ЖЕНЩИНА, А НЕ КАК МУЖЧИНА</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5 – ДЕРЖИТЕ ГЛАЗА И УШИ ОТКРЫТЫМИ, ЧТОБЫ ИЗБЕЖАТЬ ПОТЕНЦИАЛЬНЫХ КОНФЛИКТОВ, В ЧАСТНОСТИ С ДРУГИМИ ЖЕНЩИНАМ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6 – ИЗУЧИТЕ ПРЕГРАДЫ, КОТОРЫЕ МОГУТ ПОМЕШАТЬ ВАМ СТАТЬ УСПЕШНЫМ РУКОВОДИТЕЛЕМ</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7 – ИЗУЧИТЕ ПРАТИЧЕСКИЕ СТРАТЕГИИ ПРЕОДОЛЕГИЯ ПРЕГРАД В РУКОВОДСТВ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8 – РУКОВОДИТЕ С УВЕРЕННОСТЬЮ, ОГРАНИЧИВАЯ ВЫРАЖЕНИЕ ЭМОЦИЙ</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9 – БУДЬТЕ ОТКРЫТЫ К ВОЗМОЖНОСТЯМ ПРОДВИЖ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0 – ОТВАЖИТЬСЯ НА РИСК</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33640" y="826920"/>
            <a:ext cx="2846160" cy="2135520"/>
          </a:xfrm>
          <a:prstGeom prst="rect">
            <a:avLst/>
          </a:prstGeom>
          <a:ln w="0">
            <a:noFill/>
          </a:ln>
        </p:spPr>
      </p:sp>
      <p:sp>
        <p:nvSpPr>
          <p:cNvPr id="204" name="PlaceHolder 2"/>
          <p:cNvSpPr>
            <a:spLocks noGrp="1"/>
          </p:cNvSpPr>
          <p:nvPr>
            <p:ph type="body"/>
          </p:nvPr>
        </p:nvSpPr>
        <p:spPr>
          <a:xfrm>
            <a:off x="685800" y="3058920"/>
            <a:ext cx="5486400" cy="53989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и кратко опишите историю библейской женщины, которая стояла перед принятием сложного реш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и кратко опишите историю современной женщины, которая пожертвовала собой ради пользы других людей</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поддержка?</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20960" y="324000"/>
            <a:ext cx="2943000" cy="2206440"/>
          </a:xfrm>
          <a:prstGeom prst="rect">
            <a:avLst/>
          </a:prstGeom>
          <a:ln w="0">
            <a:noFill/>
          </a:ln>
        </p:spPr>
      </p:sp>
      <p:sp>
        <p:nvSpPr>
          <p:cNvPr id="206"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арактерные черты, которые женщина принесла и продолжает приносить в руководство организацией, включая те, которые основываются на вере, очевидно очень цен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олжительная сосредоточенность, способность воспринимать пространство, физические и умственные ресурсы, духовность, сильное желание соревнований и искреннее желание служить Богу, своей семье и другим людям.</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163600" y="539640"/>
            <a:ext cx="2367000" cy="1774800"/>
          </a:xfrm>
          <a:prstGeom prst="rect">
            <a:avLst/>
          </a:prstGeom>
          <a:ln w="0">
            <a:noFill/>
          </a:ln>
        </p:spPr>
      </p:sp>
      <p:sp>
        <p:nvSpPr>
          <p:cNvPr id="148" name="PlaceHolder 2"/>
          <p:cNvSpPr>
            <a:spLocks noGrp="1"/>
          </p:cNvSpPr>
          <p:nvPr>
            <p:ph type="body"/>
          </p:nvPr>
        </p:nvSpPr>
        <p:spPr>
          <a:xfrm>
            <a:off x="685440" y="2339640"/>
            <a:ext cx="5551560" cy="61182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Например</a:t>
            </a:r>
            <a:r>
              <a:rPr b="1" lang="en-US" sz="1200" spc="-1" strike="noStrike">
                <a:solidFill>
                  <a:srgbClr val="000000"/>
                </a:solidFill>
                <a:latin typeface="Garamond"/>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ru-RU" sz="1200" spc="-1" strike="noStrike">
                <a:solidFill>
                  <a:srgbClr val="000000"/>
                </a:solidFill>
                <a:latin typeface="Arial"/>
              </a:rPr>
              <a:t>Он отменил ритуалы и законы, связанные с нечистотой женщины во время менструальных кровотечений (Мк. 5:25-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отменил правило, что мужчине было запрещено разговаривать с женщиной в общественном месте, когда все женщины видели, что Он разговаривает с самарянкой (Иоанн. 4:7).</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римере, Марии, сестры Лазаря и Марты, Христос показал, что Он принимает женщину как ученицу, хотя в то время, женщинам не было разрешено учится (Лк. 10:38-4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828800" y="395280"/>
            <a:ext cx="2749680" cy="2063880"/>
          </a:xfrm>
          <a:prstGeom prst="rect">
            <a:avLst/>
          </a:prstGeom>
          <a:ln w="0">
            <a:noFill/>
          </a:ln>
        </p:spPr>
      </p:sp>
      <p:sp>
        <p:nvSpPr>
          <p:cNvPr id="150"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инимал женщин в свой близкий круг. Лука описывает, что многие женщины последовали за Христом (Лк. 8:1-3).</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присутствовали при Его распятии (Мтф. 27:55-56).</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явился женщинам после воскресенья, и побудил их свидетельствова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ддерживал вдов (Лк. 4:26; 7:11; 18:1; 20:47 и 21: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ддерживал ценность супружеского союза, особенно в вопросах развода (Мк. 10:1).</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84320" y="826920"/>
            <a:ext cx="2654280" cy="1990800"/>
          </a:xfrm>
          <a:prstGeom prst="rect">
            <a:avLst/>
          </a:prstGeom>
          <a:ln w="0">
            <a:noFill/>
          </a:ln>
        </p:spPr>
      </p:sp>
      <p:sp>
        <p:nvSpPr>
          <p:cNvPr id="15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В жизни и притчах Иисуса Христа женщины встречаются также часто, как и мужчины.</a:t>
            </a:r>
            <a:br>
              <a:rPr sz="700"/>
            </a:br>
            <a:r>
              <a:rPr b="1" i="1" lang="ru-RU" sz="1200" spc="-1" strike="noStrike">
                <a:solidFill>
                  <a:srgbClr val="000000"/>
                </a:solidFill>
                <a:latin typeface="Arial"/>
              </a:rPr>
              <a:t>А) Симеон и Анна (Лк. 2:25-28).</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Б) Потерянная овца; женщина и потерянная драхма; блудный сын (Лк. 1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В) Анания и Сапфира (Деян. 5:1-1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Г) Разговор Лидии и тюремного стража (Деян. 16:14-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Д) Дианис и Дамария (Деян. 17: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Как руководитель вы можете обнаружить, что некоторые из женщин все еще скептически относятся в руководящей роли женщины. Вы сможете это определить по вашему разговору с ними, по их выбору посещать семинары, которые проводят исключительно мужчины, или другими способами. Вы захотите помочь этим женщинам расти, предоставляя, насколько это возможно, информацию о женщинах, занимающихся руководством и информацию, раскрывающую данный вопрос с теологической перспективы.</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319480" y="611280"/>
            <a:ext cx="2174760" cy="1630440"/>
          </a:xfrm>
          <a:prstGeom prst="rect">
            <a:avLst/>
          </a:prstGeom>
          <a:ln w="0">
            <a:noFill/>
          </a:ln>
        </p:spPr>
      </p:sp>
      <p:sp>
        <p:nvSpPr>
          <p:cNvPr id="154" name="PlaceHolder 2"/>
          <p:cNvSpPr>
            <a:spLocks noGrp="1"/>
          </p:cNvSpPr>
          <p:nvPr>
            <p:ph type="body"/>
          </p:nvPr>
        </p:nvSpPr>
        <p:spPr>
          <a:xfrm>
            <a:off x="685800" y="2268360"/>
            <a:ext cx="5486400" cy="5615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 одной такой книге «Женщины в Церкви: Библейское богословие женщин в служении», написанной Стенли Грензе и Денис Мюр Кьесбо, авторы приходят к следующим утверждениям, которые возможно окажутся полезными для вас, когда вы будете обсуждать этот сложный вопрос</a:t>
            </a:r>
            <a:r>
              <a:rPr b="1" i="1" lang="ru-RU"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ужение Иисуса Христа придает значение ценности и важнейшему равенству женщин. Христос противостоит культуре своего времени и ценит женщину наравне с мужчин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Радикальные изменения в плане Иисуса Христа по развитию Церкви были предприняты после для Пятидесятницы. Женщины пророчествовали наравне с мужчинами» (Деян. 2:16-17, 21:8-19, 1 Кор. 11: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рискилла, обучающая Аполоса, показывает, что женщины были учителям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Женщины также трудились наравне с мужчинами (Рим. 16) и Павел призывал верующих подчиняться таким соработникам» (1 Кор. 16:6), и, таким образом, мужчины и женщины верят в призвание женщин быть руководителями и подчиняются их авторитет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умеется, что есть женщины, которых невозможно убедить в том, что женщинам дан дар руководства. Распространение данных цитат может быть полезным для прочтения во время вашей лекции, а также когда участницы семинара поедут домой.</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368440" y="395280"/>
            <a:ext cx="2078280" cy="1558800"/>
          </a:xfrm>
          <a:prstGeom prst="rect">
            <a:avLst/>
          </a:prstGeom>
          <a:ln w="0">
            <a:noFill/>
          </a:ln>
        </p:spPr>
      </p:sp>
      <p:sp>
        <p:nvSpPr>
          <p:cNvPr id="156" name="PlaceHolder 2"/>
          <p:cNvSpPr>
            <a:spLocks noGrp="1"/>
          </p:cNvSpPr>
          <p:nvPr>
            <p:ph type="body"/>
          </p:nvPr>
        </p:nvSpPr>
        <p:spPr>
          <a:xfrm>
            <a:off x="685800" y="2050920"/>
            <a:ext cx="5486400" cy="618984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ите ли вы, что Бог призвал женщин быть руководителями? Всегда ли вы так думал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женщины в прошлом и в настоящем могут быть образцом для вас?</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уют ли такие руководящие роли, которые не соответствуют женщинам-христианкам?</a:t>
            </a:r>
            <a:endParaRPr b="0" lang="en-US" sz="1200" spc="-1" strike="noStrike">
              <a:solidFill>
                <a:srgbClr val="000000"/>
              </a:solidFill>
              <a:latin typeface="Calibri"/>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349360" y="684360"/>
            <a:ext cx="2270160" cy="1701720"/>
          </a:xfrm>
          <a:prstGeom prst="rect">
            <a:avLst/>
          </a:prstGeom>
          <a:ln w="0">
            <a:noFill/>
          </a:ln>
        </p:spPr>
      </p:sp>
      <p:sp>
        <p:nvSpPr>
          <p:cNvPr id="158" name="PlaceHolder 2"/>
          <p:cNvSpPr>
            <a:spLocks noGrp="1"/>
          </p:cNvSpPr>
          <p:nvPr>
            <p:ph type="body"/>
          </p:nvPr>
        </p:nvSpPr>
        <p:spPr>
          <a:xfrm>
            <a:off x="685800" y="2411280"/>
            <a:ext cx="569592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2 - ВИДЕТЬ В СЕБЕ ЖЕНЩИНУ, ПРИЗВАННУЮ БОГОМ РУКОВОДИТЬ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вы осознаете, что Бог призвал вас к выполнению руководящей задачи, требуется мужество, чтобы приступить и принять роль, которую Он предопределил для вас. Существует некоторый страх, когда выходишь из своей комфортной зоны в неопознанные воды. Противодействия могут ожидать на каждом шагу, и, конечно, может возникать вопрос: Почему 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не захотите поверить, что Бог призвал вас отвечать на нужды времени. Как Есфирь осознавала, что она преднамеренно находилась в Персидском государстве в определенное время, так и современные женщины должны осознавать, что Бог призывает женщин разных возрастов ответить на нужды своего времени. Если вы та сама женщина, которую Бог призывает сегодня, почувствуйте благословение. Так как Бог не оставил многих других женщин, Он не оставит и вас одну перед вашей задачей. Ему всего лишь нужны руки людей – руки женщин, чтобы этими руками совершат труд.</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55A3F-A252-4053-AFA1-2CD45DD3C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8EDE4-0929-4F53-B98C-B1B31A0A4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AEB9E-CFBF-4FAE-9E2F-BADAAE083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7F244-7F82-4FF6-A928-0A495FFFD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1F71D-578F-4E8B-9CAE-66BB3EF64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84990-0BCF-4EF1-9698-8FA3204B8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B8FB7-F15C-4FAD-8AE0-661B74646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96F80-B72F-453C-BADB-C93390DED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B5636-BDD8-47EF-A7B6-104E95AD4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077B8-503B-4643-BE38-BB033D137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1384F-C4FB-47DE-BAA3-4A427C23F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0C84D-53ED-43E3-9E29-D41E63ED6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2A24-E856-4236-8DB0-9431AB5AA53A}"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2484360" y="4005360"/>
            <a:ext cx="6659640" cy="1368360"/>
          </a:xfrm>
          <a:prstGeom prst="rect">
            <a:avLst/>
          </a:prstGeom>
          <a:solidFill>
            <a:srgbClr val="6666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Book"/>
              </a:rPr>
              <a:t>Оснащение руководителей</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Book"/>
              </a:rPr>
              <a:t>для успеха</a:t>
            </a:r>
            <a:endParaRPr b="0" lang="en-US" sz="4400" spc="-1" strike="noStrike">
              <a:solidFill>
                <a:srgbClr val="000000"/>
              </a:solidFill>
              <a:latin typeface="Calibri"/>
            </a:endParaRPr>
          </a:p>
        </p:txBody>
      </p:sp>
      <p:pic>
        <p:nvPicPr>
          <p:cNvPr id="52" name="" descr=""/>
          <p:cNvPicPr/>
          <p:nvPr/>
        </p:nvPicPr>
        <p:blipFill>
          <a:blip r:embed="rId2"/>
          <a:stretch/>
        </p:blipFill>
        <p:spPr>
          <a:xfrm>
            <a:off x="8101080" y="4822920"/>
            <a:ext cx="718920" cy="492120"/>
          </a:xfrm>
          <a:prstGeom prst="rect">
            <a:avLst/>
          </a:prstGeom>
          <a:ln w="0">
            <a:noFill/>
          </a:ln>
        </p:spPr>
      </p:pic>
      <p:sp>
        <p:nvSpPr>
          <p:cNvPr id="53" name=""/>
          <p:cNvSpPr/>
          <p:nvPr/>
        </p:nvSpPr>
        <p:spPr>
          <a:xfrm>
            <a:off x="4049640" y="5958000"/>
            <a:ext cx="2898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Franklin Gothic Book"/>
              </a:rPr>
              <a:t>Сертификационная программа</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Franklin Gothic Book"/>
              </a:rPr>
              <a:t>Отдела Женского служения ГК</a:t>
            </a:r>
            <a:endParaRPr b="0" lang="en-US" sz="1600" spc="-1" strike="noStrike">
              <a:solidFill>
                <a:srgbClr val="000000"/>
              </a:solidFill>
              <a:latin typeface="Calibri"/>
            </a:endParaRPr>
          </a:p>
        </p:txBody>
      </p:sp>
      <p:sp>
        <p:nvSpPr>
          <p:cNvPr id="54" name=""/>
          <p:cNvSpPr/>
          <p:nvPr/>
        </p:nvSpPr>
        <p:spPr>
          <a:xfrm>
            <a:off x="4174920" y="5408640"/>
            <a:ext cx="37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Franklin Gothic Book"/>
              </a:rPr>
              <a:t>Подготовлено Розой Банкс</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824120" y="731880"/>
            <a:ext cx="6851520" cy="53611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эвид Коттрелл и Эрик Харвей в своей книге «Мужество руководить» напоминают нам, что «для каждого человека в любой организации наступает момент, когда он или она должны мужественно двигаться вперед и отвечать на нужды времени. Независимо от того, когда наступит ваше время: сейчас или в будущем, вы должны подготовиться  и как мужественный руководитель желать воспользоваться моментом!»</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1692360" y="333360"/>
            <a:ext cx="7005600" cy="4525920"/>
          </a:xfrm>
          <a:prstGeom prst="rect">
            <a:avLst/>
          </a:prstGeom>
          <a:noFill/>
          <a:ln w="0">
            <a:noFill/>
          </a:ln>
        </p:spPr>
        <p:txBody>
          <a:bodyPr lIns="90000" rIns="90000" tIns="46800" bIns="46800" anchor="t">
            <a:normAutofit fontScale="86000"/>
          </a:bodyPr>
          <a:p>
            <a:pPr marL="294840" indent="-29484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Бог призвал вас руководить, то вместо вопроса: «Почему я?», подумайте: «Почему не я?». Помните о том, что если Бог призывает вас, то Он не предлагает делать всю работу в одиночку. Он обещал сопровождать вас. Поэтому позвольте Господу руководить, а себе - следовать. Это означает склоняться на колени и просить продолжения руководства. Коттрелл и Харвей предлагают: «Остановитесь перед тем, как сделать следующий шаг – всегда оценивайте результаты, которых вы достигли. Воспользуйтесь переменами, потому что когда вы перестанете изменяться, вы перестанете развиваться» (Коттрелл, Харвей, стр. 26)</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1897200" y="48528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a:t>
            </a:r>
            <a:endParaRPr b="0" lang="en-US" sz="3600" spc="-1" strike="noStrike">
              <a:solidFill>
                <a:srgbClr val="000000"/>
              </a:solidFill>
              <a:latin typeface="Calibri"/>
            </a:endParaRPr>
          </a:p>
        </p:txBody>
      </p:sp>
      <p:sp>
        <p:nvSpPr>
          <p:cNvPr id="82" name="PlaceHolder 2"/>
          <p:cNvSpPr>
            <a:spLocks noGrp="1"/>
          </p:cNvSpPr>
          <p:nvPr>
            <p:ph/>
          </p:nvPr>
        </p:nvSpPr>
        <p:spPr>
          <a:xfrm>
            <a:off x="1835280" y="1988640"/>
            <a:ext cx="6851520" cy="452628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увствуете ли вы себя женщиной, которую призвал Бог? Если да, то в какой области?</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женщина может знать, что Бог призвал ее выполнить определенную задачу?</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сколько комфортно вы себя чувствуете, когда следуете за женщиной-руководителе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71280"/>
            <a:ext cx="9144000" cy="6929280"/>
          </a:xfrm>
          <a:prstGeom prst="rect">
            <a:avLst/>
          </a:prstGeom>
          <a:ln w="0">
            <a:noFill/>
          </a:ln>
        </p:spPr>
      </p:pic>
      <p:sp>
        <p:nvSpPr>
          <p:cNvPr id="84" name="PlaceHolder 1"/>
          <p:cNvSpPr>
            <a:spLocks noGrp="1"/>
          </p:cNvSpPr>
          <p:nvPr>
            <p:ph type="title"/>
          </p:nvPr>
        </p:nvSpPr>
        <p:spPr>
          <a:xfrm>
            <a:off x="2916000" y="27432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3 - РАЗВИТИЕ ЛИДЕРСКИХ НАВЫКОВ, КОТОРЫЕ БОГ ВЛОЖИЛ В ВАС</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5"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возможно не обратить внимание на тот факт, что, когда вы осознаете, что Бог призвал вас руководить, вы узнаете намного больше о себе, поэтому вы можете изменяться, возрастать и становиться руководителем, которого Бог вложил в вас. Один из способов, которому вы можете последовать, - изучить хорошо разработанные модели, которые помогут вам воссоздать или возродить ваш способ руководства.</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1763280" y="414000"/>
            <a:ext cx="6994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дискуссии и размышления</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88" name="PlaceHolder 2"/>
          <p:cNvSpPr>
            <a:spLocks noGrp="1"/>
          </p:cNvSpPr>
          <p:nvPr>
            <p:ph/>
          </p:nvPr>
        </p:nvSpPr>
        <p:spPr>
          <a:xfrm>
            <a:off x="1968480" y="1926720"/>
            <a:ext cx="6851520" cy="452628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ми лидерскими качествами вы обладаете?</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будете продолжать развивать их в служении Богу?</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себя чувствуете, используя эти качеств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71280"/>
            <a:ext cx="9144000" cy="6929280"/>
          </a:xfrm>
          <a:prstGeom prst="rect">
            <a:avLst/>
          </a:prstGeom>
          <a:ln w="0">
            <a:noFill/>
          </a:ln>
        </p:spPr>
      </p:pic>
      <p:sp>
        <p:nvSpPr>
          <p:cNvPr id="90"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4 – РУКОВОДИТЕ КАК ЖЕНЩИНА, А НЕ КАК МУЖЧИН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1" name="PlaceHolder 2"/>
          <p:cNvSpPr>
            <a:spLocks noGrp="1"/>
          </p:cNvSpPr>
          <p:nvPr>
            <p:ph/>
          </p:nvPr>
        </p:nvSpPr>
        <p:spPr>
          <a:xfrm>
            <a:off x="457200" y="184464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дна из самых больших ошибок, которую могут сделать женщины-руководители, заключается в том, что они стараются руководить как мужчины, а не как женщины. Существует несколько ролевых моделей в той области, но многие женщины подражают только тем моделям, которые они видели у мужчин. Несмотря на то, что женщины могут многому научиться у мужчин, им необходимо знать, что они могут достичь намного большего, если будут оставаться собой. Для успешного руководства нам нужно определить, чего, на самом деле, хотим добиться и когда чувствуем себя комфортно, чтобы попросить об этом, а затем запустить ресурсы, чтобы достичь желаемого результата.</a:t>
            </a:r>
            <a:r>
              <a:rPr b="0"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1979280" y="476280"/>
            <a:ext cx="6707160" cy="5361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 можете напомнить себе, что Бог сотворил женщину и мужчину по своему образу (Быт. 1:26), поэтому существует женское начало. На протяжении веков лишь несколько женщин были привлечены к принятию решений на самом высоком административном уровне. Самые большие организации не только привлекают женщин к принятию решений, но также доверяют им руководство командами</a:t>
            </a:r>
            <a:r>
              <a:rPr b="0" lang="ru-RU" sz="2400" spc="-1" strike="noStrike">
                <a:solidFill>
                  <a:srgbClr val="000000"/>
                </a:solidFill>
                <a:latin typeface="Calibri"/>
              </a:rPr>
              <a:t> </a:t>
            </a:r>
            <a:r>
              <a:rPr b="0" lang="ru-RU" sz="2400" spc="-1" strike="noStrike">
                <a:solidFill>
                  <a:srgbClr val="000000"/>
                </a:solidFill>
                <a:latin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2195640" y="274320"/>
            <a:ext cx="605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96" name="PlaceHolder 2"/>
          <p:cNvSpPr>
            <a:spLocks noGrp="1"/>
          </p:cNvSpPr>
          <p:nvPr>
            <p:ph/>
          </p:nvPr>
        </p:nvSpPr>
        <p:spPr>
          <a:xfrm>
            <a:off x="1979280" y="1711440"/>
            <a:ext cx="6707160" cy="4525920"/>
          </a:xfrm>
          <a:prstGeom prst="rect">
            <a:avLst/>
          </a:prstGeom>
          <a:noFill/>
          <a:ln w="0">
            <a:noFill/>
          </a:ln>
        </p:spPr>
        <p:txBody>
          <a:bodyPr lIns="90000" rIns="90000" tIns="46800" bIns="46800" anchor="t">
            <a:normAutofit fontScale="87000"/>
          </a:bodyPr>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лидерские качества вы обнаружили у женщин-руководителей, которых вы знаете?</a:t>
            </a:r>
            <a:endParaRPr b="0" lang="en-US" sz="3200" spc="-1" strike="noStrike">
              <a:solidFill>
                <a:srgbClr val="000000"/>
              </a:solidFill>
              <a:latin typeface="Calibri"/>
            </a:endParaRPr>
          </a:p>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ое, по крайней мере, одно из этих качеств, которое вы хотели бы развить в себе?</a:t>
            </a:r>
            <a:endParaRPr b="0" lang="en-US" sz="3200" spc="-1" strike="noStrike">
              <a:solidFill>
                <a:srgbClr val="000000"/>
              </a:solidFill>
              <a:latin typeface="Calibri"/>
            </a:endParaRPr>
          </a:p>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 каких ваших лидерских качествах вам говорят другие люд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71280"/>
            <a:ext cx="9144000" cy="6929280"/>
          </a:xfrm>
          <a:prstGeom prst="rect">
            <a:avLst/>
          </a:prstGeom>
          <a:ln w="0">
            <a:noFill/>
          </a:ln>
        </p:spPr>
      </p:pic>
      <p:sp>
        <p:nvSpPr>
          <p:cNvPr id="98" name="PlaceHolder 1"/>
          <p:cNvSpPr>
            <a:spLocks noGrp="1"/>
          </p:cNvSpPr>
          <p:nvPr>
            <p:ph type="title"/>
          </p:nvPr>
        </p:nvSpPr>
        <p:spPr>
          <a:xfrm>
            <a:off x="2689200" y="198000"/>
            <a:ext cx="645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5 – ДЕРЖИТЕ ГЛАЗА И УШИ ОТКРЫТЫМИ, ЧТОБЫ ИЗБЕЖАТЬ ПОТЕНЦИАЛЬНЫХ КОНФЛИКТОВ, В ЧАСТНОСТИ С ДРУГИМИ ЖЕНЩИНА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9" name="PlaceHolder 2"/>
          <p:cNvSpPr>
            <a:spLocks noGrp="1"/>
          </p:cNvSpPr>
          <p:nvPr>
            <p:ph/>
          </p:nvPr>
        </p:nvSpPr>
        <p:spPr>
          <a:xfrm>
            <a:off x="446040" y="2104920"/>
            <a:ext cx="8229600" cy="34848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цепция работы в команде очень важна в руководстве. В процессе построения команды очень важно осознавать, что различия во мнениях и конфликты, которые могут быть их следствием, неизбежны, особенно на рабочем месте или в церковном сообществе.</a:t>
            </a:r>
            <a:r>
              <a:rPr b="0" lang="ru-RU"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1836360" y="874800"/>
            <a:ext cx="7056360" cy="543384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роче говоря, исследования показали, что более, чем восемь процентов проблем возникают, когда руководители организации вовлечены в межличностные конфликты внутри рабочей группы. Эти конфликты не возможно игнорировать, что они сами по себе разрешатся. Это не произойдет. Люди всегда будут сталкиваться с проблемными ситуациями, а руководитель должен быть готов разрешать их.</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1835280" y="404280"/>
            <a:ext cx="6851520" cy="626436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учение других людей, особенно других женщин, является важнейшим компонентом успеха руководителя. Десять основных стратегий семинара открывают способы обучения других людей, а также предоставляют информацию о руководстве командой. Вопросы для размышления, предложенные в конце каждой стратегии, побудят участников к дискуссии, которая принесет пользу каждой женщине и поможет продолжить раскрывать, развивать и взращивать руководителя в себ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1835280" y="27432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a:t>
            </a:r>
            <a:endParaRPr b="0" lang="en-US" sz="3600" spc="-1" strike="noStrike">
              <a:solidFill>
                <a:srgbClr val="000000"/>
              </a:solidFill>
              <a:latin typeface="Calibri"/>
            </a:endParaRPr>
          </a:p>
        </p:txBody>
      </p:sp>
      <p:sp>
        <p:nvSpPr>
          <p:cNvPr id="104" name="PlaceHolder 2"/>
          <p:cNvSpPr>
            <a:spLocks noGrp="1"/>
          </p:cNvSpPr>
          <p:nvPr>
            <p:ph/>
          </p:nvPr>
        </p:nvSpPr>
        <p:spPr>
          <a:xfrm>
            <a:off x="1897200" y="1782720"/>
            <a:ext cx="685152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много раньше в руководящих кругах существовало мнение, что «женщины являются самыми злейшими врагами для самих же себя». Что означает данное заявление?</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читаете ли вы, что в наши дни женщине легче поддержать другую женщину? Почему? И почему нет?</a:t>
            </a:r>
            <a:endParaRPr b="0" lang="en-US" sz="2400" spc="-1" strike="noStrike">
              <a:solidFill>
                <a:srgbClr val="000000"/>
              </a:solidFill>
              <a:latin typeface="Calibri"/>
            </a:endParaRPr>
          </a:p>
          <a:p>
            <a:pPr marL="609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71280"/>
            <a:ext cx="9144000" cy="6929280"/>
          </a:xfrm>
          <a:prstGeom prst="rect">
            <a:avLst/>
          </a:prstGeom>
          <a:ln w="0">
            <a:noFill/>
          </a:ln>
        </p:spPr>
      </p:pic>
      <p:sp>
        <p:nvSpPr>
          <p:cNvPr id="106" name="PlaceHolder 1"/>
          <p:cNvSpPr>
            <a:spLocks noGrp="1"/>
          </p:cNvSpPr>
          <p:nvPr>
            <p:ph type="title"/>
          </p:nvPr>
        </p:nvSpPr>
        <p:spPr>
          <a:xfrm>
            <a:off x="2905200" y="19800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6 – ИЗУЧИТЕ ПРЕГРАДЫ, КОТОРЫЕ МОГУТ ВАМ ПОМЕШАТЬ СТАТЬ УСПЕШНЫМ РУКОВОДИТЕЛЕМ</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7" name="PlaceHolder 2"/>
          <p:cNvSpPr>
            <a:spLocks noGrp="1"/>
          </p:cNvSpPr>
          <p:nvPr>
            <p:ph/>
          </p:nvPr>
        </p:nvSpPr>
        <p:spPr>
          <a:xfrm>
            <a:off x="457200" y="1699920"/>
            <a:ext cx="822960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скольку многие женщины не занимали общественные руководящие должности ранее, возможно, существуют преграды, которые могут помешать им стать успешными руководителями, и эти преграды следует изучить.</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дна из наиболее очевидных преград – СТРАХ.</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ругая – ОТВЕТСТВЕННОСТЬ</a:t>
            </a:r>
            <a:r>
              <a:rPr b="0" lang="ru-RU" sz="2400" spc="-1" strike="noStrike">
                <a:solidFill>
                  <a:srgbClr val="000000"/>
                </a:solidFill>
                <a:latin typeface="Calibri"/>
              </a:rPr>
              <a:t> </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ретьей преградой может быть НЕДОСТАТОК ПОДДЕРЖКИ.</a:t>
            </a: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твертой преградой может быть ЛИЧНЫЙ БАГАЖ</a:t>
            </a:r>
            <a:r>
              <a:rPr b="0" lang="ru-RU" sz="2400" spc="-1" strike="noStrike">
                <a:solidFill>
                  <a:srgbClr val="000000"/>
                </a:solidFill>
                <a:latin typeface="Calibri"/>
              </a:rPr>
              <a:t> </a:t>
            </a:r>
            <a:r>
              <a:rPr b="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1897200" y="259920"/>
            <a:ext cx="6635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10" name="PlaceHolder 2"/>
          <p:cNvSpPr>
            <a:spLocks noGrp="1"/>
          </p:cNvSpPr>
          <p:nvPr>
            <p:ph/>
          </p:nvPr>
        </p:nvSpPr>
        <p:spPr>
          <a:xfrm>
            <a:off x="2041560" y="1855800"/>
            <a:ext cx="68515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ие не личные преграды вам необходимо преодолеть? (Упомяните о личных преградах также, если вы хотите).</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гласны ли вы с тем, что женщины должны преодолевать больше преград, чем мужчины?</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ъясните, почему вы считаете, что женщины встречаются (или не встречаются) с множеством прегра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71280"/>
            <a:ext cx="9144000" cy="6929280"/>
          </a:xfrm>
          <a:prstGeom prst="rect">
            <a:avLst/>
          </a:prstGeom>
          <a:ln w="0">
            <a:noFill/>
          </a:ln>
        </p:spPr>
      </p:pic>
      <p:sp>
        <p:nvSpPr>
          <p:cNvPr id="112" name="PlaceHolder 1"/>
          <p:cNvSpPr>
            <a:spLocks noGrp="1"/>
          </p:cNvSpPr>
          <p:nvPr>
            <p:ph type="title"/>
          </p:nvPr>
        </p:nvSpPr>
        <p:spPr>
          <a:xfrm>
            <a:off x="2626920" y="188640"/>
            <a:ext cx="644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7 – ИЗУЧИТЕ ПРАТИЧЕСКИЕ СТРАТЕГИИ ПРЕОДОЛЕГИЯ ПРЕГРАД В РУКОВОДСТВ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вое, что вам необходимо знать, после того, как вы изучили преграды, которые могут навредить вашему руководству – от вас не требуется разрешать проблемы в одночасье. Однако, вам необходимо овладеть двумя или тремя особыми способами разрешения конфликтов. Даже если они покажутся вам детскими, позвольте им помочь вам продвинуться в верном направлен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2050560" y="274320"/>
            <a:ext cx="663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16" name="PlaceHolder 2"/>
          <p:cNvSpPr>
            <a:spLocks noGrp="1"/>
          </p:cNvSpPr>
          <p:nvPr>
            <p:ph/>
          </p:nvPr>
        </p:nvSpPr>
        <p:spPr>
          <a:xfrm>
            <a:off x="1835280" y="1782720"/>
            <a:ext cx="70675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1. </a:t>
            </a:r>
            <a:r>
              <a:rPr b="0" lang="ru-RU" sz="2800" spc="-1" strike="noStrike">
                <a:solidFill>
                  <a:srgbClr val="000000"/>
                </a:solidFill>
                <a:latin typeface="Arial"/>
              </a:rPr>
              <a:t>Для преград, которые вы перечислите в Стратегии 7, определите способы, которыми женщины могли бы преодолеть их.</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елитесь своим опытом, как вы преодолели хотя бы одну из преград.</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ие простые, даже детские советы вы могли бы дать женщинам, которым нужно переместиться из пункта А в пункт 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71280"/>
            <a:ext cx="9144000" cy="6929280"/>
          </a:xfrm>
          <a:prstGeom prst="rect">
            <a:avLst/>
          </a:prstGeom>
          <a:ln w="0">
            <a:noFill/>
          </a:ln>
        </p:spPr>
      </p:pic>
      <p:sp>
        <p:nvSpPr>
          <p:cNvPr id="118" name="PlaceHolder 1"/>
          <p:cNvSpPr>
            <a:spLocks noGrp="1"/>
          </p:cNvSpPr>
          <p:nvPr>
            <p:ph type="title"/>
          </p:nvPr>
        </p:nvSpPr>
        <p:spPr>
          <a:xfrm>
            <a:off x="2771280" y="18864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8 – РУКОВОДИТЕ С УВЕРЕННОСТЬЮ, ОГРАНИЧИВАЯ ВЫРАЖЕНИЕ ЭМОЦИЙ</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9" name="PlaceHolder 2"/>
          <p:cNvSpPr>
            <a:spLocks noGrp="1"/>
          </p:cNvSpPr>
          <p:nvPr>
            <p:ph/>
          </p:nvPr>
        </p:nvSpPr>
        <p:spPr>
          <a:xfrm>
            <a:off x="395280" y="18558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Женщины гораздо легче проявляют и говорят об эмоциях, чем мужчины. Большинство женщин, однако, должны принимать очень сложное решение: какие эмоции показать, с какой силой, насколько можно быть агрессивной, что может расцениваться как властность, бесцеремонность, самовластие женщин руководителей, которые работают в женских организация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1908000" y="414000"/>
            <a:ext cx="677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22" name="PlaceHolder 2"/>
          <p:cNvSpPr>
            <a:spLocks noGrp="1"/>
          </p:cNvSpPr>
          <p:nvPr>
            <p:ph/>
          </p:nvPr>
        </p:nvSpPr>
        <p:spPr>
          <a:xfrm>
            <a:off x="1907640" y="1844640"/>
            <a:ext cx="700596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ыли ли в вашей жизни случаи, когда другие люди говорили, что вы ведете себя бесцеремонно или агрессивно?</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женщина может держать свои эмоции под контролем?</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означает для женщины-руководителя держать эмоции под контроле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71280"/>
            <a:ext cx="9144000" cy="6929280"/>
          </a:xfrm>
          <a:prstGeom prst="rect">
            <a:avLst/>
          </a:prstGeom>
          <a:ln w="0">
            <a:noFill/>
          </a:ln>
        </p:spPr>
      </p:pic>
      <p:sp>
        <p:nvSpPr>
          <p:cNvPr id="124" name="PlaceHolder 1"/>
          <p:cNvSpPr>
            <a:spLocks noGrp="1"/>
          </p:cNvSpPr>
          <p:nvPr>
            <p:ph type="title"/>
          </p:nvPr>
        </p:nvSpPr>
        <p:spPr>
          <a:xfrm>
            <a:off x="2771280" y="18864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9 – БУДЬТЕ ОТКРЫТЫ К ВОЗМОЖНОСТЯМ ПРОДВИЖЕН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25"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вы планируете принять вызов, будь-то корпорация или церковная организация, вам необходимо покинуть свою комфортную зону. Время от времени вам необходимо делать шаг в неизвестное. Поэтому вам многому придется учиться. Когда возможность постучится, вам необходимо открыть дверь, если вы хотите достичь самых высоких вершин, которые вам приготовил Создатель. Не закрывайте двери возможностей до тех пор, пока вы физически не сможете идти дальш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28" name="PlaceHolder 2"/>
          <p:cNvSpPr>
            <a:spLocks noGrp="1"/>
          </p:cNvSpPr>
          <p:nvPr>
            <p:ph/>
          </p:nvPr>
        </p:nvSpPr>
        <p:spPr>
          <a:xfrm>
            <a:off x="1979280" y="1700280"/>
            <a:ext cx="6778440" cy="4525920"/>
          </a:xfrm>
          <a:prstGeom prst="rect">
            <a:avLst/>
          </a:prstGeom>
          <a:noFill/>
          <a:ln w="0">
            <a:noFill/>
          </a:ln>
        </p:spPr>
        <p:txBody>
          <a:bodyPr lIns="90000" rIns="90000" tIns="46800" bIns="46800" anchor="t">
            <a:normAutofit fontScale="96000"/>
          </a:bodyPr>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гда вы оглядываетесь на свою жизнь, видите ли вы в ней «возможности», которые вы упустили?</a:t>
            </a:r>
            <a:endParaRPr b="0" lang="en-US" sz="3200" spc="-1" strike="noStrike">
              <a:solidFill>
                <a:srgbClr val="000000"/>
              </a:solidFill>
              <a:latin typeface="Calibri"/>
            </a:endParaRPr>
          </a:p>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существуют различия между предложением и возможностью?</a:t>
            </a:r>
            <a:endParaRPr b="0" lang="en-US" sz="3200" spc="-1" strike="noStrike">
              <a:solidFill>
                <a:srgbClr val="000000"/>
              </a:solidFill>
              <a:latin typeface="Calibri"/>
            </a:endParaRPr>
          </a:p>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важно помнить, чтобы не упустить возможност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71280"/>
            <a:ext cx="9144000" cy="6929280"/>
          </a:xfrm>
          <a:prstGeom prst="rect">
            <a:avLst/>
          </a:prstGeom>
          <a:ln w="0">
            <a:noFill/>
          </a:ln>
        </p:spPr>
      </p:pic>
      <p:sp>
        <p:nvSpPr>
          <p:cNvPr id="130"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РАТЕГИЯ 10 – ОТВАЖИТЬСЯ НА РИСК</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31"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i="1" lang="ru-RU" sz="3200" spc="-1" strike="noStrike">
                <a:solidFill>
                  <a:srgbClr val="000000"/>
                </a:solidFill>
                <a:latin typeface="Arial"/>
              </a:rPr>
              <a:t>У эффективных руководителей много схожих характерных черт. Две из них очень важны:</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1. Они берут на себя смелость принимать решения, когда это необходимо сделать</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2. Они желают принести себя в жертву для пользы других люде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2700360" y="333000"/>
            <a:ext cx="6300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1 - ВЕРЬТЕ, ЧТО БОГ ПРИЗВАЛ ЖЕНЩИН БЫТЬ РУКОВОДИТЕЛЯ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59" name="PlaceHolder 2"/>
          <p:cNvSpPr>
            <a:spLocks noGrp="1"/>
          </p:cNvSpPr>
          <p:nvPr>
            <p:ph/>
          </p:nvPr>
        </p:nvSpPr>
        <p:spPr>
          <a:xfrm>
            <a:off x="34920" y="2060640"/>
            <a:ext cx="88200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енщинам, которые думают в таком направлении, нам необходимо напомнить, что избранные женщины были активно вовлечены в руководство в древнем Израиле, не смотря на то, что их свобода и статус были строго ограничены иудаизмом и традицией. (Три примера женщин, используемых Богом на руководящих должностях в Ветхом Завете это Мариам, Девора и Олдама). Женщинам также необходимо напомнить, что во дни Христа Он бросал вызов традициям, законам и убеждениями, которые делали женщину зависимой.</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p:nvPr>
        </p:nvSpPr>
        <p:spPr>
          <a:xfrm>
            <a:off x="1908000" y="764640"/>
            <a:ext cx="6778800" cy="4526280"/>
          </a:xfrm>
          <a:prstGeom prst="rect">
            <a:avLst/>
          </a:prstGeom>
          <a:noFill/>
          <a:ln w="0">
            <a:noFill/>
          </a:ln>
        </p:spPr>
        <p:txBody>
          <a:bodyPr lIns="90000" rIns="90000" tIns="46800" bIns="46800" anchor="t">
            <a:normAutofit fontScale="91000"/>
          </a:bodyPr>
          <a:p>
            <a:pPr marL="312120" indent="-31212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 христианском руководстве мы располагаем желания Бога выше наших, поскольку только Он один знает, что лучше для нас. В Библейском повествовании мы читаем о некоторых героях, которые были очень незначительно образованы, но Бог руководил их жизнью и использовал их для Своего дела и славы. Они решили следовать за Ним, куда бы Он ни повел и, несомненно, им сопутствовал успех.</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71280"/>
            <a:ext cx="9144000" cy="6929280"/>
          </a:xfrm>
          <a:prstGeom prst="rect">
            <a:avLst/>
          </a:prstGeom>
          <a:ln w="0">
            <a:noFill/>
          </a:ln>
        </p:spPr>
      </p:pic>
      <p:sp>
        <p:nvSpPr>
          <p:cNvPr id="135" name="PlaceHolder 1"/>
          <p:cNvSpPr>
            <a:spLocks noGrp="1"/>
          </p:cNvSpPr>
          <p:nvPr>
            <p:ph/>
          </p:nvPr>
        </p:nvSpPr>
        <p:spPr>
          <a:xfrm>
            <a:off x="107640" y="1782720"/>
            <a:ext cx="4321080" cy="4525920"/>
          </a:xfrm>
          <a:prstGeom prst="rect">
            <a:avLst/>
          </a:prstGeom>
          <a:noFill/>
          <a:ln w="0">
            <a:noFill/>
          </a:ln>
        </p:spPr>
        <p:txBody>
          <a:bodyPr lIns="90000" rIns="90000" tIns="46800" bIns="46800" anchor="t">
            <a:normAutofit/>
          </a:bodyPr>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1 - ВЕРЬТЕ, ЧТО БОГ ПРИЗВАЛ ЖЕНЩИН БЫТЬ РУКОВОДИТЕЛЯМИ</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2 - ВИДЕТЬ В СЕБЕ ЖЕНЩИНУ, ПРИЗВАННУЮ БОГОМ РУКОВОДИТЬ</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3 - РАЗВИТИЕ ЛИДЕРСКИХ НАВЫКОВ, КОТОРЫЕ БОГ ВЛОЖИЛ В ВАС</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4 – РУКОВОДИТЕ КАК ЖЕНЩИНА, А НЕ КАК МУЖЧИНА</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5 – ДЕРЖИТЕ ГЛАЗА И УШИ ОТКРЫТЫМИ, ЧТОБЫ ИЗБЕЖАТЬ ПОТЕНЦИАЛЬНЫХ КОНФЛИКТОВ, В ЧАСТНОСТИ С ДРУГИМИ ЖЕНЩИНАМИ</a:t>
            </a:r>
            <a:endParaRPr b="0" lang="en-US" sz="1600" spc="-1" strike="noStrike">
              <a:solidFill>
                <a:srgbClr val="000000"/>
              </a:solidFill>
              <a:latin typeface="Calibri"/>
            </a:endParaRPr>
          </a:p>
        </p:txBody>
      </p:sp>
      <p:sp>
        <p:nvSpPr>
          <p:cNvPr id="136" name="PlaceHolder 2"/>
          <p:cNvSpPr>
            <a:spLocks noGrp="1"/>
          </p:cNvSpPr>
          <p:nvPr>
            <p:ph/>
          </p:nvPr>
        </p:nvSpPr>
        <p:spPr>
          <a:xfrm>
            <a:off x="4642920" y="1773360"/>
            <a:ext cx="4038840" cy="4525920"/>
          </a:xfrm>
          <a:prstGeom prst="rect">
            <a:avLst/>
          </a:prstGeom>
          <a:noFill/>
          <a:ln w="0">
            <a:noFill/>
          </a:ln>
        </p:spPr>
        <p:txBody>
          <a:bodyPr lIns="90000" rIns="90000" tIns="46800" bIns="46800" anchor="t">
            <a:normAutofit/>
          </a:bodyPr>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6 – ИЗУЧИТЕ ПРЕГРАДЫ, КОТОРЫЕ МОГУТ ПОМЕШАТЬ ВАМ СТАТЬ УСПЕШНЫМ РУКОВОДИТЕЛЕМ</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7 – ИЗУЧИТЕ ПРАТИЧЕСКИЕ СТРАТЕГИИ ПРЕОДОЛЕГИЯ ПРЕГРАД В РУКОВОДСТВЕ</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8 – РУКОВОДИТЕ С УВЕРЕННОСТЬЮ, ОГРАНИЧИВАЯ ВЫРАЖЕНИЕ ЭМОЦИЙ</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9 – БУДЬТЕ ОТКРЫТЫ К ВОЗМОЖНОСТЯМ ПРОДВИЖЕНИЯ</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10 – ОТВАЖИТЬСЯ НА РИСК</a:t>
            </a:r>
            <a:endParaRPr b="0" lang="en-US" sz="1600" spc="-1" strike="noStrike">
              <a:solidFill>
                <a:srgbClr val="000000"/>
              </a:solidFill>
              <a:latin typeface="Calibri"/>
            </a:endParaRPr>
          </a:p>
        </p:txBody>
      </p:sp>
      <p:sp>
        <p:nvSpPr>
          <p:cNvPr id="137" name=""/>
          <p:cNvSpPr/>
          <p:nvPr/>
        </p:nvSpPr>
        <p:spPr>
          <a:xfrm>
            <a:off x="3539520" y="496800"/>
            <a:ext cx="3615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10 стратеги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40" name="PlaceHolder 2"/>
          <p:cNvSpPr>
            <a:spLocks noGrp="1"/>
          </p:cNvSpPr>
          <p:nvPr>
            <p:ph/>
          </p:nvPr>
        </p:nvSpPr>
        <p:spPr>
          <a:xfrm>
            <a:off x="1897200" y="1782720"/>
            <a:ext cx="6851520" cy="4525920"/>
          </a:xfrm>
          <a:prstGeom prst="rect">
            <a:avLst/>
          </a:prstGeom>
          <a:noFill/>
          <a:ln w="0">
            <a:noFill/>
          </a:ln>
        </p:spPr>
        <p:txBody>
          <a:bodyPr lIns="90000" rIns="90000" tIns="46800" bIns="46800" anchor="t">
            <a:normAutofit/>
          </a:bodyPr>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те и кратко опишите историю библейской женщины, которая стояла перед принятием сложного решения.</a:t>
            </a:r>
            <a:endParaRPr b="0" lang="en-US" sz="3200" spc="-1" strike="noStrike">
              <a:solidFill>
                <a:srgbClr val="000000"/>
              </a:solidFill>
              <a:latin typeface="Calibri"/>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те и кратко опишите историю современной женщины, которая пожертвовала собой ради пользы других людей</a:t>
            </a:r>
            <a:endParaRPr b="0" lang="en-US" sz="3200" spc="-1" strike="noStrike">
              <a:solidFill>
                <a:srgbClr val="000000"/>
              </a:solidFill>
              <a:latin typeface="Calibri"/>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такое поддержк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PlaceHolder 1"/>
          <p:cNvSpPr>
            <a:spLocks noGrp="1"/>
          </p:cNvSpPr>
          <p:nvPr>
            <p:ph/>
          </p:nvPr>
        </p:nvSpPr>
        <p:spPr>
          <a:xfrm>
            <a:off x="2112840" y="660240"/>
            <a:ext cx="6346800" cy="5793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арактерные черты, которые женщина принесла и продолжает приносить в руководство организацией, включая те, которые основываются на вере, очевидно очень ценны: продолжительная сосредоточенность, способность воспринимать пространство, физические и умственные ресурсы, духовность, сильное желание соревнований и искреннее желание служить Богу, своей семье и другим людя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1906560" y="183960"/>
            <a:ext cx="3457440" cy="79668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Franklin Gothic Book"/>
              </a:rPr>
              <a:t>Например</a:t>
            </a:r>
            <a:r>
              <a:rPr b="1" lang="en-US" sz="3200" spc="-1" strike="noStrike">
                <a:solidFill>
                  <a:srgbClr val="ffffff"/>
                </a:solidFill>
                <a:latin typeface="Franklin Gothic Book"/>
              </a:rPr>
              <a:t>:</a:t>
            </a:r>
            <a:endParaRPr b="0" lang="en-US" sz="3200" spc="-1" strike="noStrike">
              <a:solidFill>
                <a:srgbClr val="000000"/>
              </a:solidFill>
              <a:latin typeface="Calibri"/>
            </a:endParaRPr>
          </a:p>
        </p:txBody>
      </p:sp>
      <p:sp>
        <p:nvSpPr>
          <p:cNvPr id="62" name="PlaceHolder 2"/>
          <p:cNvSpPr>
            <a:spLocks noGrp="1"/>
          </p:cNvSpPr>
          <p:nvPr>
            <p:ph/>
          </p:nvPr>
        </p:nvSpPr>
        <p:spPr>
          <a:xfrm>
            <a:off x="1682280" y="1341360"/>
            <a:ext cx="7210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отменил ритуалы и законы, связанные с нечистотой женщины во время менструальных кровотечений (Мк. 5:25-34).</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отменил правило, что мужчине было запрещено разговаривать с женщиной в общественном месте, когда все женщины видели, что Он разговаривает с самарянкой (Иоанн. 4:7).</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примере, Марии, сестры Лазаря и Марты, Христос показал, что Он принимает женщину как ученицу, хотя в то время, женщинам не было разрешено учится (Лк. 10:38-4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27000"/>
            <a:ext cx="9144000" cy="6885000"/>
          </a:xfrm>
          <a:prstGeom prst="rect">
            <a:avLst/>
          </a:prstGeom>
          <a:ln w="0">
            <a:noFill/>
          </a:ln>
        </p:spPr>
      </p:pic>
      <p:sp>
        <p:nvSpPr>
          <p:cNvPr id="64" name="PlaceHolder 1"/>
          <p:cNvSpPr>
            <a:spLocks noGrp="1"/>
          </p:cNvSpPr>
          <p:nvPr>
            <p:ph/>
          </p:nvPr>
        </p:nvSpPr>
        <p:spPr>
          <a:xfrm>
            <a:off x="1763280" y="804960"/>
            <a:ext cx="7201080" cy="5937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ринимал женщин в свой близкий круг. Лука описывает, что многие женщины последовали за Христом (Лк. 8:1-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енщины присутствовали при Его распятии (Мтф. 27:55-56).</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явился женщинам после воскресенья, и побудил их свидетельствоват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оддерживал вдов (Лк. 4:26; 7:11; 18:1; 20:47 и 21: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оддерживал ценность супружеского союза, особенно в вопросах развода (Мк. 10: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1692000" y="414000"/>
            <a:ext cx="69944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жизни и притчах Иисуса Христа женщины встречаются также часто, как и мужчины.</a:t>
            </a:r>
            <a:br>
              <a:rPr sz="2400"/>
            </a:br>
            <a:endParaRPr b="0" lang="en-US" sz="2400" spc="-1" strike="noStrike">
              <a:solidFill>
                <a:srgbClr val="000000"/>
              </a:solidFill>
              <a:latin typeface="Calibri"/>
            </a:endParaRPr>
          </a:p>
        </p:txBody>
      </p:sp>
      <p:sp>
        <p:nvSpPr>
          <p:cNvPr id="67" name="PlaceHolder 2"/>
          <p:cNvSpPr>
            <a:spLocks noGrp="1"/>
          </p:cNvSpPr>
          <p:nvPr>
            <p:ph/>
          </p:nvPr>
        </p:nvSpPr>
        <p:spPr>
          <a:xfrm>
            <a:off x="1692000" y="1782720"/>
            <a:ext cx="727236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А) Симеон и Анна (Лк. 2:25-28).</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Б) Потерянная овца; женщина и потерянная драхма; блудный сын (Лк. 15).</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 Анания и Сапфира (Деян. 5:1-11).</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Г) Разговор Лидии и тюремного стража (Деян. 16:14-34).</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 Дианис и Дамария (Деян. 17:3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763280" y="260280"/>
            <a:ext cx="7201080" cy="5865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Служение Иисуса Христа придает значение ценности и важнейшему равенству женщин. Христос противостоит культуре своего времени и ценит женщину наравне с мужчино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Радикальные изменения в плане Иисуса Христа по развитию Церкви были предприняты после для Пятидесятницы. Женщины пророчествовали наравне с мужчинами» (Деян. 2:16-17, 21:8-19, 1 Кор. 1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скилла, обучающая Аполоса, показывает, что женщины были учителям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Женщины также трудились наравне с мужчинами (Рим. 16) и Павел призывал верующих подчиняться таким соработникам» (1 Кор. 16:6), и, таким образом, мужчины и женщины верят в призвание женщин быть руководителями и подчиняются их авторитет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1908000" y="630000"/>
            <a:ext cx="677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72" name="PlaceHolder 2"/>
          <p:cNvSpPr>
            <a:spLocks noGrp="1"/>
          </p:cNvSpPr>
          <p:nvPr>
            <p:ph/>
          </p:nvPr>
        </p:nvSpPr>
        <p:spPr>
          <a:xfrm>
            <a:off x="1979280" y="2216160"/>
            <a:ext cx="670716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ерите ли вы, что Бог призвал женщин быть руководителями? Всегда ли вы так думали?</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женщины в прошлом и в настоящем могут быть образцом для вас?</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уществуют ли такие руководящие роли, которые не соответствуют женщинам-христианка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71280"/>
            <a:ext cx="9144000" cy="6929280"/>
          </a:xfrm>
          <a:prstGeom prst="rect">
            <a:avLst/>
          </a:prstGeom>
          <a:ln w="0">
            <a:noFill/>
          </a:ln>
        </p:spPr>
      </p:pic>
      <p:sp>
        <p:nvSpPr>
          <p:cNvPr id="74" name="PlaceHolder 1"/>
          <p:cNvSpPr>
            <a:spLocks noGrp="1"/>
          </p:cNvSpPr>
          <p:nvPr>
            <p:ph type="title"/>
          </p:nvPr>
        </p:nvSpPr>
        <p:spPr>
          <a:xfrm>
            <a:off x="2906280" y="259920"/>
            <a:ext cx="598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2 - ВИДЕТЬ В СЕБЕ ЖЕНЩИНУ, ПРИЗВАННУЮ БОГОМ РУКОВОДИТЬ</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5" name="PlaceHolder 2"/>
          <p:cNvSpPr>
            <a:spLocks noGrp="1"/>
          </p:cNvSpPr>
          <p:nvPr>
            <p:ph/>
          </p:nvPr>
        </p:nvSpPr>
        <p:spPr>
          <a:xfrm>
            <a:off x="446040" y="191628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вы осознаете, что Бог призвал вас к выполнению руководящей задачи, требуется мужество, чтобы приступить и принять роль, которую Он предопределил для вас. Существует некоторый страх, когда выходишь из своей комфортной зоны в неопознанные воды. Противодействия могут ожидать на каждом шагу, и, конечно, может возникать вопрос: Почему 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01:38:56Z</dcterms:created>
  <dc:creator>Erika</dc:creator>
  <dc:description/>
  <dc:language>en-US</dc:language>
  <cp:lastModifiedBy>Irina Romashkina</cp:lastModifiedBy>
  <dcterms:modified xsi:type="dcterms:W3CDTF">2008-01-14T16:16:53Z</dcterms:modified>
  <cp:revision>45</cp:revision>
  <dc:subject/>
  <dc:title>Slide 1</dc:title>
</cp:coreProperties>
</file>